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13C1C-0B3D-4630-808F-95962F5EB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26D37-27E3-42AB-87E7-A4F848B98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157CF-8402-438E-A64B-87F6D78A1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3FD0F-EC70-4F48-A541-91DF1AC2E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EB816-E649-4D0D-B775-6EC965739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47FF6-318D-4BE9-836E-DD9926C3C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92FC5-6441-4D48-8633-EE45493ED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CA5A9-0E6C-4FF6-AC29-D05ABE6FE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239A9-2575-40D6-B127-37194C300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2CD87-23A0-4624-9E2D-1E4194B8C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2919E-3DA5-402C-B17E-F6D1E1FBA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8E156-6407-4D9E-A3C3-AAF8AD69F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D6DAD-DFCE-4D29-92C0-81750A519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994E7-04F0-43E9-A1DF-9A615883D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31006-EBE2-41A3-96E2-320E18E8E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31742-8D1D-41B8-91B7-B595037F4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5F8D5-4BD9-482B-84B5-ABB8F9293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806A1B-7D16-4A2D-8076-3836E02C3B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456855-D17D-437D-A0A9-3E59088E70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A26070-09CE-4F19-9066-F1E798C663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C743B1-C8C8-44C2-9970-280CD39BA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B46B6F-D365-4606-840B-89638BF811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6027A-B08A-4643-A854-A6F57A585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4AEE6E-AEF4-4F8A-AB7C-529AE57330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01D69-5953-428E-8801-F0588BAD5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28A22-BED7-4643-8DDD-2A7B0090A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5AE7B-A7DB-40AA-AB09-FD441EAB8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F02D6F-804D-46DC-8829-0C5FCDAC8F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A6B120-7669-4049-9F56-04DD30FEC4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325CB1-E5B4-4C14-A510-98C933A07E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81DD9D-9C59-4B2C-895C-05E59D9C4D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021F20-DC55-4E2E-B6DC-BA35111F6C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370129-2617-431D-9490-10848B49C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9F5E1-E233-4706-939B-7E5A36475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3E6B10-C181-40EF-B045-9B45A1D9D3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03CE0-30EC-4ED0-A5DF-04305FF7A4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6AEB6A-F6E8-447C-BB0C-C583F9024B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ED6D8-3E91-4527-A4FF-31D799AD7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1D06F-14F7-4481-931B-0A3DC15308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6F4C4D-8FE3-4CDE-B8BE-133B52DB9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5FD89-ED73-426E-BC5A-9B81560070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5AA688-DB8F-4C89-86EE-132AD30D16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D5B1E1-F341-4144-977A-0E85300D73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50940C-7934-48A5-A8DB-62949BA9A9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B01BF-2404-4B54-BA3F-E62CCE7DA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55E695-63AA-4D31-95E8-12276A20E4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7D5D8-DB3A-4B25-A61F-665B91FE5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1A3978-3482-4BC9-AA31-619078B289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9E8717-D4FE-45AC-8387-85441483FF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2E750-ECF3-4209-9474-04A4A40735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0695D2-07FE-441C-8F31-56D52F69C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FA6C35-A19B-46E4-ACE1-50A4EBB9D5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8F205-B234-4319-884B-9BBEEE226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521EA1-A7EF-4807-B482-472EB5166C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3159B8-B022-407D-B8E3-B08EC14742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811CD-4A03-43AF-A37A-540F9EFDB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A4B7E1-1F4B-402B-818D-B4DF587FA9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9A0CF1-67AE-4BC8-9D4E-561F5DA537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5F0A9F-4E78-4D3E-8A22-460F55B6EA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A4507-68E8-490E-B33A-ECC8F8609C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77A83C-BAD8-4193-ABCA-9090B785A2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E09162-F4AB-40BB-9C8A-D4BC10AFB9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AE468A-E1D9-4829-AEE0-10A582E090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520222-37C2-493D-959B-446EFA6E5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52215A-0051-4025-950C-4FAB2D5BEE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FD81A-548F-43C7-91F0-3200E7CC43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BC27-BBE6-47BB-88D7-0C222F5F3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2CCDDE-4F41-48D8-9BA6-297B1F37AF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05B7CC-8D51-45A2-A328-364245AC34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AF6253-8D42-4DE8-8FF7-80706F4B5A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D6F8A1-A847-4F62-8E9C-383EFEFAD8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23B8B9-469B-4DC2-8C27-92FB26B771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74CEDF-0C9D-496C-88BD-C929508862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4D2B72-34A4-4AB5-BD00-458B72D87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73EF2C-6813-4E07-AD67-A24E4DAAB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C90B54-2BC5-437E-B1D7-A62C2B8375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47170C-ABFB-44BD-89CA-0563A15B1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ED579-6A51-49F2-8E8F-C112BF300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AB6BA-0781-4C5E-8077-22AE73058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711DF1-355D-4686-8C60-E5F990BA7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545A02-A612-471C-A8B3-648CE3B88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3FD53D-0491-48B6-AB71-AD8DF98C17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CC391D-0819-4A30-8F6D-5E84EA0A5E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27DA4-F8EC-42F6-937B-061F69B2B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직사각형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 name="직사각형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 name="직사각형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 name="직사각형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4" name="직사각형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 name="직사각형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6" name="직사각형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7" name="직사각형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8" name="직사각형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D5DC-397F-450A-84B7-D69912EC1D7F}"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직사각형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1" name="직사각형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2" name="직사각형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3" name="직사각형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4" name="직사각형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5" name="직사각형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6" name="직사각형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7" name="직사각형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8" name="직사각형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C708-40E0-43ED-83D6-5806B3C4E323}"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직사각형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1" name="직사각형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2" name="직사각형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3" name="직사각형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4" name="직사각형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5" name="직사각형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6" name="직사각형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7" name="직사각형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8" name="직사각형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09" name="자유형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0" name="자유형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1" name="자유형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2" name="자유형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3" name="자유형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4" name="자유형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5" name="자유형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6" name="자유형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7" name="자유형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8" name="자유형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19" name="자유형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0" name="자유형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1" name="자유형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2" name="자유형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3" name="자유형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4" name="직사각형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5" name="직사각형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6" name="직사각형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7" name="직사각형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8" name="직사각형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29" name="직사각형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593F-A570-48A1-9845-BF3C0C249675}"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30B9-49B0-4B0D-BD46-1EC98AC79CB7}"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직사각형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3" name="직사각형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4" name="직사각형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5" name="직사각형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6" name="직사각형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7" name="직사각형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8" name="직사각형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19" name="직사각형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20" name="직사각형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21" name="직사각형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FD9D-BB9C-47F5-8C3C-CEE7EF6F66E0}"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4C39-B00D-4180-B8E7-125F3D4A0963}"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직사각형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05" name="직사각형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06" name="직사각형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07" name="직사각형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08" name="직사각형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09" name="직사각형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10" name="직사각형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11" name="직사각형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12" name="직사각형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13" name="직사각형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14" name="직선 연결선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grpSp>
        <p:nvGrpSpPr>
          <p:cNvPr id="315" name="그룹 19"/>
          <p:cNvGrpSpPr/>
          <p:nvPr/>
        </p:nvGrpSpPr>
        <p:grpSpPr>
          <a:xfrm>
            <a:off x="8516880" y="1217520"/>
            <a:ext cx="128160" cy="131400"/>
            <a:chOff x="8516880" y="1217520"/>
            <a:chExt cx="128160" cy="131400"/>
          </a:xfrm>
        </p:grpSpPr>
        <p:sp>
          <p:nvSpPr>
            <p:cNvPr id="316" name="직선 연결선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굴림"/>
              </a:endParaRPr>
            </a:p>
          </p:txBody>
        </p:sp>
        <p:sp>
          <p:nvSpPr>
            <p:cNvPr id="317" name="직선 연결선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318" name="직선 연결선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굴림"/>
              </a:endParaRPr>
            </a:p>
          </p:txBody>
        </p:sp>
      </p:grpSp>
      <p:grpSp>
        <p:nvGrpSpPr>
          <p:cNvPr id="319" name="그룹 25"/>
          <p:cNvGrpSpPr/>
          <p:nvPr/>
        </p:nvGrpSpPr>
        <p:grpSpPr>
          <a:xfrm>
            <a:off x="8669160" y="1370160"/>
            <a:ext cx="129240" cy="131400"/>
            <a:chOff x="8669160" y="1370160"/>
            <a:chExt cx="129240" cy="131400"/>
          </a:xfrm>
        </p:grpSpPr>
        <p:sp>
          <p:nvSpPr>
            <p:cNvPr id="320" name="직선 연결선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굴림"/>
              </a:endParaRPr>
            </a:p>
          </p:txBody>
        </p:sp>
        <p:sp>
          <p:nvSpPr>
            <p:cNvPr id="321" name="직선 연결선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322" name="직선 연결선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굴림"/>
              </a:endParaRPr>
            </a:p>
          </p:txBody>
        </p:sp>
      </p:grpSp>
      <p:grpSp>
        <p:nvGrpSpPr>
          <p:cNvPr id="323" name="그룹 29"/>
          <p:cNvGrpSpPr/>
          <p:nvPr/>
        </p:nvGrpSpPr>
        <p:grpSpPr>
          <a:xfrm>
            <a:off x="8321760" y="1473120"/>
            <a:ext cx="128160" cy="131400"/>
            <a:chOff x="8321760" y="1473120"/>
            <a:chExt cx="128160" cy="131400"/>
          </a:xfrm>
        </p:grpSpPr>
        <p:sp>
          <p:nvSpPr>
            <p:cNvPr id="324" name="직선 연결선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굴림"/>
              </a:endParaRPr>
            </a:p>
          </p:txBody>
        </p:sp>
        <p:sp>
          <p:nvSpPr>
            <p:cNvPr id="325" name="직선 연결선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
          <p:nvSpPr>
            <p:cNvPr id="326" name="직선 연결선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굴림"/>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EA81-3A3A-45F6-927D-37076AD0FE15}" type="slidenum">
              <a:rPr b="0" lang="ko-KR"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m/imgres?imgurl=http://techdigest.tv/mercury.jpg&amp;imgrefurl=http://www.techdigest.tv/2008/07/nasa_probe_disc.html&amp;usg=__ANhgD1thh_Io2UTmJ168SqLBjgo=&amp;h=300&amp;w=300&amp;sz=12&amp;hl=ko&amp;start=8&amp;um=1&amp;tbnid=ZPryz4qbhHeZ2M:&amp;tbnh=116&amp;tbnw=116&amp;prev=/images%3Fq%3Dmercury%26um%3D1%26hl%3Dko%26lr%3D%26sa%3DN" TargetMode="External"/><Relationship Id="rId3" Type="http://schemas.openxmlformats.org/officeDocument/2006/relationships/image" Target="../media/image2.jpeg"/><Relationship Id="rId4" Type="http://schemas.openxmlformats.org/officeDocument/2006/relationships/hyperlink" Target="http://images.google.com/imgres?imgurl=http://techdigest.tv/mercury.jpg&amp;imgrefurl=http://www.techdigest.tv/2008/07/nasa_probe_disc.html&amp;usg=__ANhgD1thh_Io2UTmJ168SqLBjgo=&amp;h=300&amp;w=300&amp;sz=12&amp;hl=ko&amp;start=8&amp;um=1&amp;tbnid=ZPryz4qbhHeZ2M:&amp;tbnh=116&amp;tbnw=116&amp;prev=/images%3Fq%3Dmercury%26um%3D1%26hl%3Dko%26lr%3D%26sa%3DN" TargetMode="External"/><Relationship Id="rId5" Type="http://schemas.openxmlformats.org/officeDocument/2006/relationships/image" Target="../media/image2.jpeg"/><Relationship Id="rId6" Type="http://schemas.openxmlformats.org/officeDocument/2006/relationships/hyperlink" Target="http://images.google.com/imgres?imgurl=http://www.splung.com/cosmology/images/mercury.jpg&amp;imgrefurl=http://www.splung.com/content.php%3Fsid%3D7%26page%3Dmercury&amp;usg=__gemolZOJ3hwyP4kLT7ynD28vJII=&amp;h=354&amp;w=461&amp;sz=34&amp;hl=ko&amp;start=1&amp;um=1&amp;tbnid=mshiO_dkAEIO1M:&amp;tbnh=98&amp;tbnw=128&amp;prev=/images%3Fq%3Dmercury%26um%3D1%26hl%3Dko%26lr%3D" TargetMode="External"/><Relationship Id="rId7" Type="http://schemas.openxmlformats.org/officeDocument/2006/relationships/image" Target="../media/image3.jpeg"/><Relationship Id="rId8" Type="http://schemas.openxmlformats.org/officeDocument/2006/relationships/hyperlink" Target="http://images.google.com/imgres?imgurl=http://www.splung.com/cosmology/images/mercury.jpg&amp;imgrefurl=http://www.splung.com/content.php%3Fsid%3D7%26page%3Dmercury&amp;usg=__gemolZOJ3hwyP4kLT7ynD28vJII=&amp;h=354&amp;w=461&amp;sz=34&amp;hl=ko&amp;start=1&amp;um=1&amp;tbnid=mshiO_dkAEIO1M:&amp;tbnh=98&amp;tbnw=128&amp;prev=/images%3Fq%3Dmercury%26um%3D1%26hl%3Dko%26lr%3D" TargetMode="External"/><Relationship Id="rId9" Type="http://schemas.openxmlformats.org/officeDocument/2006/relationships/image" Target="../media/image3.jpeg"/><Relationship Id="rId10" Type="http://schemas.openxmlformats.org/officeDocument/2006/relationships/image" Target="../media/image4.jpeg"/><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제목 1" descr=""/>
          <p:cNvPicPr/>
          <p:nvPr/>
        </p:nvPicPr>
        <p:blipFill>
          <a:blip r:embed="rId1"/>
          <a:stretch/>
        </p:blipFill>
        <p:spPr>
          <a:xfrm>
            <a:off x="476280" y="30240"/>
            <a:ext cx="4602240" cy="1963800"/>
          </a:xfrm>
          <a:prstGeom prst="rect">
            <a:avLst/>
          </a:prstGeom>
          <a:ln w="0">
            <a:noFill/>
          </a:ln>
        </p:spPr>
      </p:pic>
      <p:sp>
        <p:nvSpPr>
          <p:cNvPr id="369" name="PlaceHolder 1"/>
          <p:cNvSpPr>
            <a:spLocks noGrp="1"/>
          </p:cNvSpPr>
          <p:nvPr>
            <p:ph type="subTitle"/>
          </p:nvPr>
        </p:nvSpPr>
        <p:spPr>
          <a:xfrm>
            <a:off x="6429240" y="4500720"/>
            <a:ext cx="2500560" cy="92376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y Ki Hoon</a:t>
            </a:r>
            <a:endParaRPr b="0" lang="en-US" sz="3600" spc="-1" strike="noStrike">
              <a:solidFill>
                <a:srgbClr val="ffffff"/>
              </a:solidFill>
              <a:latin typeface="Corbel"/>
            </a:endParaRPr>
          </a:p>
        </p:txBody>
      </p:sp>
      <p:pic>
        <p:nvPicPr>
          <p:cNvPr id="370" name="Picture 2" descr="http://tbn2.google.com/images?q=tbn:ZPryz4qbhHeZ2M:http://techdigest.tv/mercury.jpg">
            <a:hlinkClick r:id="rId2"/>
          </p:cNvPr>
          <p:cNvPicPr/>
          <p:nvPr/>
        </p:nvPicPr>
        <p:blipFill>
          <a:blip r:embed="rId3"/>
          <a:stretch/>
        </p:blipFill>
        <p:spPr>
          <a:xfrm>
            <a:off x="6715080" y="857160"/>
            <a:ext cx="2214720" cy="2214720"/>
          </a:xfrm>
          <a:prstGeom prst="rect">
            <a:avLst/>
          </a:prstGeom>
          <a:ln w="0">
            <a:noFill/>
          </a:ln>
        </p:spPr>
      </p:pic>
      <p:pic>
        <p:nvPicPr>
          <p:cNvPr id="371" name="Picture 4" descr="http://tbn2.google.com/images?q=tbn:ZPryz4qbhHeZ2M:http://techdigest.tv/mercury.jpg">
            <a:hlinkClick r:id="rId4"/>
          </p:cNvPr>
          <p:cNvPicPr/>
          <p:nvPr/>
        </p:nvPicPr>
        <p:blipFill>
          <a:blip r:embed="rId5"/>
          <a:stretch/>
        </p:blipFill>
        <p:spPr>
          <a:xfrm>
            <a:off x="4929120" y="2000160"/>
            <a:ext cx="2071800" cy="2071800"/>
          </a:xfrm>
          <a:prstGeom prst="rect">
            <a:avLst/>
          </a:prstGeom>
          <a:ln w="0">
            <a:noFill/>
          </a:ln>
        </p:spPr>
      </p:pic>
      <p:pic>
        <p:nvPicPr>
          <p:cNvPr id="372" name="Picture 6" descr="http://tbn2.google.com/images?q=tbn:mshiO_dkAEIO1M:http://www.splung.com/cosmology/images/mercury.jpg">
            <a:hlinkClick r:id="rId6"/>
          </p:cNvPr>
          <p:cNvPicPr/>
          <p:nvPr/>
        </p:nvPicPr>
        <p:blipFill>
          <a:blip r:embed="rId7"/>
          <a:stretch/>
        </p:blipFill>
        <p:spPr>
          <a:xfrm>
            <a:off x="2786040" y="1643040"/>
            <a:ext cx="2332080" cy="1785960"/>
          </a:xfrm>
          <a:prstGeom prst="rect">
            <a:avLst/>
          </a:prstGeom>
          <a:ln w="0">
            <a:noFill/>
          </a:ln>
        </p:spPr>
      </p:pic>
      <p:pic>
        <p:nvPicPr>
          <p:cNvPr id="373" name="Picture 8" descr="http://tbn2.google.com/images?q=tbn:mshiO_dkAEIO1M:http://www.splung.com/cosmology/images/mercury.jpg">
            <a:hlinkClick r:id="rId8"/>
          </p:cNvPr>
          <p:cNvPicPr/>
          <p:nvPr/>
        </p:nvPicPr>
        <p:blipFill>
          <a:blip r:embed="rId9"/>
          <a:stretch/>
        </p:blipFill>
        <p:spPr>
          <a:xfrm>
            <a:off x="714240" y="2571840"/>
            <a:ext cx="2000520" cy="1531800"/>
          </a:xfrm>
          <a:prstGeom prst="rect">
            <a:avLst/>
          </a:prstGeom>
          <a:ln w="0">
            <a:noFill/>
          </a:ln>
        </p:spPr>
      </p:pic>
      <p:pic>
        <p:nvPicPr>
          <p:cNvPr id="374" name="Picture 10" descr="http://www.thejubileeacademy.org/marketing/media/solar_system1.jpg"/>
          <p:cNvPicPr/>
          <p:nvPr/>
        </p:nvPicPr>
        <p:blipFill>
          <a:blip r:embed="rId10"/>
          <a:stretch/>
        </p:blipFill>
        <p:spPr>
          <a:xfrm>
            <a:off x="142920" y="4143240"/>
            <a:ext cx="5572080" cy="2571840"/>
          </a:xfrm>
          <a:prstGeom prst="rect">
            <a:avLst/>
          </a:prstGeom>
          <a:ln w="0">
            <a:noFill/>
          </a:ln>
        </p:spPr>
      </p:pic>
      <p:sp>
        <p:nvSpPr>
          <p:cNvPr id="375" name="Ink 9"/>
          <p:cNvSpPr/>
          <p:nvPr/>
        </p:nvSpPr>
        <p:spPr>
          <a:xfrm>
            <a:off x="3902040" y="5592600"/>
            <a:ext cx="3284640" cy="976320"/>
          </a:xfrm>
          <a:custGeom>
            <a:avLst/>
            <a:gdLst/>
            <a:ahLst/>
            <a:rect l="l" t="t" r="r" b="b"/>
            <a:pathLst>
              <a:path w="9124" h="2711">
                <a:moveTo>
                  <a:pt x="12150" y="16531"/>
                </a:moveTo>
                <a:cubicBezTo>
                  <a:pt x="12157" y="16531"/>
                  <a:pt x="12164" y="16531"/>
                  <a:pt x="12171" y="16531"/>
                </a:cubicBezTo>
                <a:cubicBezTo>
                  <a:pt x="12152" y="16551"/>
                  <a:pt x="12134" y="16597"/>
                  <a:pt x="12107" y="16616"/>
                </a:cubicBezTo>
                <a:cubicBezTo>
                  <a:pt x="12080" y="16635"/>
                  <a:pt x="12035" y="16649"/>
                  <a:pt x="11980" y="16658"/>
                </a:cubicBezTo>
                <a:cubicBezTo>
                  <a:pt x="11767" y="16693"/>
                  <a:pt x="11538" y="16647"/>
                  <a:pt x="11324" y="16679"/>
                </a:cubicBezTo>
                <a:cubicBezTo>
                  <a:pt x="11256" y="16689"/>
                  <a:pt x="11221" y="16710"/>
                  <a:pt x="11155" y="16679"/>
                </a:cubicBezTo>
                <a:cubicBezTo>
                  <a:pt x="11122" y="16663"/>
                  <a:pt x="11077" y="16619"/>
                  <a:pt x="11049" y="16595"/>
                </a:cubicBezTo>
                <a:cubicBezTo>
                  <a:pt x="11016" y="16568"/>
                  <a:pt x="10997" y="16556"/>
                  <a:pt x="10964" y="16510"/>
                </a:cubicBezTo>
                <a:cubicBezTo>
                  <a:pt x="10929" y="16462"/>
                  <a:pt x="10878" y="16390"/>
                  <a:pt x="10858" y="16341"/>
                </a:cubicBezTo>
                <a:cubicBezTo>
                  <a:pt x="10848" y="16315"/>
                  <a:pt x="10841" y="16241"/>
                  <a:pt x="10837" y="16214"/>
                </a:cubicBezTo>
                <a:cubicBezTo>
                  <a:pt x="10818" y="16071"/>
                  <a:pt x="10824" y="15877"/>
                  <a:pt x="10858" y="15748"/>
                </a:cubicBezTo>
                <a:cubicBezTo>
                  <a:pt x="10870" y="15703"/>
                  <a:pt x="10861" y="15691"/>
                  <a:pt x="10880" y="15663"/>
                </a:cubicBezTo>
                <a:cubicBezTo>
                  <a:pt x="10899" y="15635"/>
                  <a:pt x="10914" y="15617"/>
                  <a:pt x="10943" y="15600"/>
                </a:cubicBezTo>
                <a:cubicBezTo>
                  <a:pt x="10976" y="15582"/>
                  <a:pt x="11079" y="15542"/>
                  <a:pt x="11112" y="15536"/>
                </a:cubicBezTo>
                <a:cubicBezTo>
                  <a:pt x="11270" y="15509"/>
                  <a:pt x="11575" y="15502"/>
                  <a:pt x="11726" y="15557"/>
                </a:cubicBezTo>
                <a:cubicBezTo>
                  <a:pt x="11763" y="15570"/>
                  <a:pt x="11801" y="15596"/>
                  <a:pt x="11832" y="15621"/>
                </a:cubicBezTo>
                <a:cubicBezTo>
                  <a:pt x="11892" y="15669"/>
                  <a:pt x="11956" y="15745"/>
                  <a:pt x="12001" y="15790"/>
                </a:cubicBezTo>
                <a:cubicBezTo>
                  <a:pt x="12024" y="15813"/>
                  <a:pt x="12046" y="15819"/>
                  <a:pt x="12065" y="15854"/>
                </a:cubicBezTo>
                <a:cubicBezTo>
                  <a:pt x="12076" y="15874"/>
                  <a:pt x="12079" y="15916"/>
                  <a:pt x="12086" y="15938"/>
                </a:cubicBezTo>
                <a:cubicBezTo>
                  <a:pt x="12101" y="15984"/>
                  <a:pt x="12092" y="16038"/>
                  <a:pt x="12107" y="16087"/>
                </a:cubicBezTo>
                <a:cubicBezTo>
                  <a:pt x="12117" y="16120"/>
                  <a:pt x="12140" y="16154"/>
                  <a:pt x="12150" y="16192"/>
                </a:cubicBezTo>
                <a:cubicBezTo>
                  <a:pt x="12162" y="16241"/>
                  <a:pt x="12165" y="16267"/>
                  <a:pt x="12171" y="16319"/>
                </a:cubicBezTo>
                <a:cubicBezTo>
                  <a:pt x="12178" y="16385"/>
                  <a:pt x="12135" y="16577"/>
                  <a:pt x="12192" y="16616"/>
                </a:cubicBezTo>
                <a:cubicBezTo>
                  <a:pt x="12227" y="16640"/>
                  <a:pt x="12258" y="16624"/>
                  <a:pt x="12298" y="16637"/>
                </a:cubicBezTo>
                <a:cubicBezTo>
                  <a:pt x="12338" y="16650"/>
                  <a:pt x="12365" y="16658"/>
                  <a:pt x="12404" y="16679"/>
                </a:cubicBezTo>
                <a:cubicBezTo>
                  <a:pt x="12459" y="16709"/>
                  <a:pt x="12515" y="16736"/>
                  <a:pt x="12573" y="16764"/>
                </a:cubicBezTo>
                <a:cubicBezTo>
                  <a:pt x="12602" y="16778"/>
                  <a:pt x="12644" y="16821"/>
                  <a:pt x="12658" y="16827"/>
                </a:cubicBezTo>
                <a:cubicBezTo>
                  <a:pt x="12717" y="16854"/>
                  <a:pt x="12722" y="16851"/>
                  <a:pt x="12785" y="16891"/>
                </a:cubicBezTo>
                <a:cubicBezTo>
                  <a:pt x="12837" y="16924"/>
                  <a:pt x="12905" y="16930"/>
                  <a:pt x="12954" y="16954"/>
                </a:cubicBezTo>
                <a:cubicBezTo>
                  <a:pt x="13006" y="16980"/>
                  <a:pt x="12999" y="16999"/>
                  <a:pt x="13039" y="17018"/>
                </a:cubicBezTo>
                <a:cubicBezTo>
                  <a:pt x="13071" y="17034"/>
                  <a:pt x="13135" y="17037"/>
                  <a:pt x="13166" y="17060"/>
                </a:cubicBezTo>
                <a:cubicBezTo>
                  <a:pt x="13185" y="17074"/>
                  <a:pt x="13203" y="17092"/>
                  <a:pt x="13229" y="17103"/>
                </a:cubicBezTo>
                <a:cubicBezTo>
                  <a:pt x="13274" y="17121"/>
                  <a:pt x="13328" y="17143"/>
                  <a:pt x="13377" y="17166"/>
                </a:cubicBezTo>
                <a:cubicBezTo>
                  <a:pt x="13425" y="17189"/>
                  <a:pt x="13436" y="17199"/>
                  <a:pt x="13483" y="17208"/>
                </a:cubicBezTo>
                <a:cubicBezTo>
                  <a:pt x="13522" y="17216"/>
                  <a:pt x="13557" y="17222"/>
                  <a:pt x="13589" y="17230"/>
                </a:cubicBezTo>
                <a:cubicBezTo>
                  <a:pt x="13619" y="17238"/>
                  <a:pt x="13642" y="17243"/>
                  <a:pt x="13674" y="17251"/>
                </a:cubicBezTo>
                <a:cubicBezTo>
                  <a:pt x="13706" y="17259"/>
                  <a:pt x="13729" y="17259"/>
                  <a:pt x="13758" y="17272"/>
                </a:cubicBezTo>
                <a:cubicBezTo>
                  <a:pt x="13784" y="17284"/>
                  <a:pt x="13786" y="17299"/>
                  <a:pt x="13822" y="17314"/>
                </a:cubicBezTo>
                <a:cubicBezTo>
                  <a:pt x="13864" y="17332"/>
                  <a:pt x="13877" y="17322"/>
                  <a:pt x="13906" y="17335"/>
                </a:cubicBezTo>
                <a:cubicBezTo>
                  <a:pt x="13938" y="17349"/>
                  <a:pt x="13957" y="17368"/>
                  <a:pt x="13991" y="17378"/>
                </a:cubicBezTo>
                <a:cubicBezTo>
                  <a:pt x="14027" y="17389"/>
                  <a:pt x="14062" y="17386"/>
                  <a:pt x="14097" y="17399"/>
                </a:cubicBezTo>
                <a:cubicBezTo>
                  <a:pt x="14132" y="17413"/>
                  <a:pt x="14164" y="17436"/>
                  <a:pt x="14203" y="17441"/>
                </a:cubicBezTo>
                <a:cubicBezTo>
                  <a:pt x="14246" y="17447"/>
                  <a:pt x="14338" y="17461"/>
                  <a:pt x="14351" y="17462"/>
                </a:cubicBezTo>
                <a:cubicBezTo>
                  <a:pt x="14371" y="17464"/>
                  <a:pt x="14394" y="17458"/>
                  <a:pt x="14414" y="17462"/>
                </a:cubicBezTo>
              </a:path>
              <a:path w="9124" h="2711">
                <a:moveTo>
                  <a:pt x="14732" y="17611"/>
                </a:moveTo>
                <a:cubicBezTo>
                  <a:pt x="14760" y="17553"/>
                  <a:pt x="14753" y="17489"/>
                  <a:pt x="14753" y="17420"/>
                </a:cubicBezTo>
                <a:cubicBezTo>
                  <a:pt x="14753" y="17274"/>
                  <a:pt x="14755" y="17138"/>
                  <a:pt x="14774" y="16997"/>
                </a:cubicBezTo>
                <a:cubicBezTo>
                  <a:pt x="14780" y="16955"/>
                  <a:pt x="14782" y="16909"/>
                  <a:pt x="14795" y="16870"/>
                </a:cubicBezTo>
                <a:cubicBezTo>
                  <a:pt x="14810" y="16828"/>
                  <a:pt x="14839" y="16799"/>
                  <a:pt x="14859" y="16764"/>
                </a:cubicBezTo>
                <a:cubicBezTo>
                  <a:pt x="14904" y="16775"/>
                  <a:pt x="14903" y="16782"/>
                  <a:pt x="14944" y="16806"/>
                </a:cubicBezTo>
                <a:cubicBezTo>
                  <a:pt x="14992" y="16835"/>
                  <a:pt x="14986" y="16851"/>
                  <a:pt x="15007" y="16912"/>
                </a:cubicBezTo>
                <a:cubicBezTo>
                  <a:pt x="15026" y="16967"/>
                  <a:pt x="15053" y="17025"/>
                  <a:pt x="15071" y="17081"/>
                </a:cubicBezTo>
                <a:cubicBezTo>
                  <a:pt x="15089" y="17138"/>
                  <a:pt x="15110" y="17213"/>
                  <a:pt x="15113" y="17272"/>
                </a:cubicBezTo>
                <a:cubicBezTo>
                  <a:pt x="15113" y="17314"/>
                  <a:pt x="15113" y="17329"/>
                  <a:pt x="15113" y="17357"/>
                </a:cubicBezTo>
                <a:cubicBezTo>
                  <a:pt x="15113" y="17280"/>
                  <a:pt x="15122" y="17217"/>
                  <a:pt x="15134" y="17145"/>
                </a:cubicBezTo>
                <a:cubicBezTo>
                  <a:pt x="15143" y="17092"/>
                  <a:pt x="15140" y="17048"/>
                  <a:pt x="15155" y="16997"/>
                </a:cubicBezTo>
                <a:cubicBezTo>
                  <a:pt x="15171" y="16944"/>
                  <a:pt x="15162" y="16898"/>
                  <a:pt x="15176" y="16849"/>
                </a:cubicBezTo>
                <a:cubicBezTo>
                  <a:pt x="15192" y="16793"/>
                  <a:pt x="15230" y="16760"/>
                  <a:pt x="15240" y="16700"/>
                </a:cubicBezTo>
                <a:cubicBezTo>
                  <a:pt x="15248" y="16652"/>
                  <a:pt x="15257" y="16657"/>
                  <a:pt x="15282" y="16616"/>
                </a:cubicBezTo>
                <a:cubicBezTo>
                  <a:pt x="15307" y="16574"/>
                  <a:pt x="15300" y="16578"/>
                  <a:pt x="15346" y="16573"/>
                </a:cubicBezTo>
                <a:cubicBezTo>
                  <a:pt x="15431" y="16563"/>
                  <a:pt x="15434" y="16667"/>
                  <a:pt x="15473" y="16722"/>
                </a:cubicBezTo>
                <a:cubicBezTo>
                  <a:pt x="15520" y="16789"/>
                  <a:pt x="15548" y="16870"/>
                  <a:pt x="15579" y="16954"/>
                </a:cubicBezTo>
                <a:cubicBezTo>
                  <a:pt x="15596" y="17000"/>
                  <a:pt x="15618" y="17038"/>
                  <a:pt x="15642" y="17081"/>
                </a:cubicBezTo>
                <a:cubicBezTo>
                  <a:pt x="15668" y="17127"/>
                  <a:pt x="15663" y="17157"/>
                  <a:pt x="15663" y="17208"/>
                </a:cubicBezTo>
                <a:cubicBezTo>
                  <a:pt x="15663" y="17247"/>
                  <a:pt x="15678" y="17259"/>
                  <a:pt x="15684" y="17293"/>
                </a:cubicBezTo>
                <a:cubicBezTo>
                  <a:pt x="15697" y="17373"/>
                  <a:pt x="15684" y="17465"/>
                  <a:pt x="15684" y="17547"/>
                </a:cubicBezTo>
              </a:path>
              <a:path w="9124" h="2711">
                <a:moveTo>
                  <a:pt x="16087" y="17208"/>
                </a:moveTo>
                <a:cubicBezTo>
                  <a:pt x="16157" y="17208"/>
                  <a:pt x="16228" y="17208"/>
                  <a:pt x="16298" y="17208"/>
                </a:cubicBezTo>
                <a:cubicBezTo>
                  <a:pt x="16298" y="17165"/>
                  <a:pt x="16310" y="17163"/>
                  <a:pt x="16319" y="17145"/>
                </a:cubicBezTo>
                <a:cubicBezTo>
                  <a:pt x="16332" y="17118"/>
                  <a:pt x="16325" y="17011"/>
                  <a:pt x="16298" y="16997"/>
                </a:cubicBezTo>
                <a:cubicBezTo>
                  <a:pt x="16262" y="16979"/>
                  <a:pt x="16237" y="16976"/>
                  <a:pt x="16192" y="16976"/>
                </a:cubicBezTo>
                <a:cubicBezTo>
                  <a:pt x="16137" y="16976"/>
                  <a:pt x="16068" y="16964"/>
                  <a:pt x="16044" y="16997"/>
                </a:cubicBezTo>
                <a:cubicBezTo>
                  <a:pt x="16019" y="17030"/>
                  <a:pt x="15996" y="17016"/>
                  <a:pt x="15981" y="17060"/>
                </a:cubicBezTo>
                <a:cubicBezTo>
                  <a:pt x="15967" y="17101"/>
                  <a:pt x="15972" y="17147"/>
                  <a:pt x="15960" y="17187"/>
                </a:cubicBezTo>
                <a:cubicBezTo>
                  <a:pt x="15943" y="17242"/>
                  <a:pt x="15938" y="17255"/>
                  <a:pt x="15938" y="17314"/>
                </a:cubicBezTo>
                <a:cubicBezTo>
                  <a:pt x="15938" y="17387"/>
                  <a:pt x="15928" y="17398"/>
                  <a:pt x="15981" y="17441"/>
                </a:cubicBezTo>
                <a:cubicBezTo>
                  <a:pt x="16012" y="17466"/>
                  <a:pt x="16025" y="17462"/>
                  <a:pt x="16065" y="17462"/>
                </a:cubicBezTo>
                <a:cubicBezTo>
                  <a:pt x="16164" y="17462"/>
                  <a:pt x="16263" y="17462"/>
                  <a:pt x="16362" y="17462"/>
                </a:cubicBezTo>
              </a:path>
              <a:path w="9124" h="2711">
                <a:moveTo>
                  <a:pt x="16531" y="16976"/>
                </a:moveTo>
                <a:cubicBezTo>
                  <a:pt x="16531" y="17131"/>
                  <a:pt x="16507" y="17323"/>
                  <a:pt x="16552" y="17462"/>
                </a:cubicBezTo>
                <a:cubicBezTo>
                  <a:pt x="16559" y="17485"/>
                  <a:pt x="16552" y="17523"/>
                  <a:pt x="16552" y="17547"/>
                </a:cubicBezTo>
                <a:cubicBezTo>
                  <a:pt x="16552" y="17483"/>
                  <a:pt x="16563" y="17437"/>
                  <a:pt x="16573" y="17378"/>
                </a:cubicBezTo>
                <a:cubicBezTo>
                  <a:pt x="16580" y="17333"/>
                  <a:pt x="16595" y="17297"/>
                  <a:pt x="16595" y="17251"/>
                </a:cubicBezTo>
                <a:cubicBezTo>
                  <a:pt x="16595" y="17218"/>
                  <a:pt x="16616" y="17204"/>
                  <a:pt x="16616" y="17166"/>
                </a:cubicBezTo>
                <a:cubicBezTo>
                  <a:pt x="16616" y="17115"/>
                  <a:pt x="16625" y="17126"/>
                  <a:pt x="16658" y="17103"/>
                </a:cubicBezTo>
                <a:cubicBezTo>
                  <a:pt x="16697" y="17076"/>
                  <a:pt x="16683" y="17081"/>
                  <a:pt x="16722" y="17060"/>
                </a:cubicBezTo>
                <a:cubicBezTo>
                  <a:pt x="16757" y="17041"/>
                  <a:pt x="16763" y="17039"/>
                  <a:pt x="16806" y="17039"/>
                </a:cubicBezTo>
                <a:cubicBezTo>
                  <a:pt x="16863" y="17039"/>
                  <a:pt x="16919" y="17039"/>
                  <a:pt x="16976" y="17039"/>
                </a:cubicBezTo>
              </a:path>
              <a:path w="9124" h="2711">
                <a:moveTo>
                  <a:pt x="17484" y="17103"/>
                </a:moveTo>
                <a:cubicBezTo>
                  <a:pt x="17437" y="17093"/>
                  <a:pt x="17408" y="17081"/>
                  <a:pt x="17357" y="17081"/>
                </a:cubicBezTo>
                <a:cubicBezTo>
                  <a:pt x="17318" y="17081"/>
                  <a:pt x="17229" y="17061"/>
                  <a:pt x="17208" y="17103"/>
                </a:cubicBezTo>
                <a:cubicBezTo>
                  <a:pt x="17193" y="17132"/>
                  <a:pt x="17196" y="17216"/>
                  <a:pt x="17187" y="17251"/>
                </a:cubicBezTo>
                <a:cubicBezTo>
                  <a:pt x="17174" y="17303"/>
                  <a:pt x="17175" y="17425"/>
                  <a:pt x="17208" y="17462"/>
                </a:cubicBezTo>
                <a:cubicBezTo>
                  <a:pt x="17240" y="17498"/>
                  <a:pt x="17236" y="17494"/>
                  <a:pt x="17272" y="17526"/>
                </a:cubicBezTo>
                <a:cubicBezTo>
                  <a:pt x="17319" y="17568"/>
                  <a:pt x="17336" y="17601"/>
                  <a:pt x="17399" y="17611"/>
                </a:cubicBezTo>
                <a:cubicBezTo>
                  <a:pt x="17436" y="17617"/>
                  <a:pt x="17457" y="17613"/>
                  <a:pt x="17484" y="17589"/>
                </a:cubicBezTo>
                <a:cubicBezTo>
                  <a:pt x="17503" y="17570"/>
                  <a:pt x="17510" y="17566"/>
                  <a:pt x="17505" y="17547"/>
                </a:cubicBezTo>
              </a:path>
              <a:path w="9124" h="2711">
                <a:moveTo>
                  <a:pt x="17716" y="17145"/>
                </a:moveTo>
                <a:cubicBezTo>
                  <a:pt x="17716" y="17181"/>
                  <a:pt x="17732" y="17195"/>
                  <a:pt x="17738" y="17230"/>
                </a:cubicBezTo>
                <a:cubicBezTo>
                  <a:pt x="17751" y="17301"/>
                  <a:pt x="17766" y="17370"/>
                  <a:pt x="17780" y="17441"/>
                </a:cubicBezTo>
                <a:cubicBezTo>
                  <a:pt x="17788" y="17479"/>
                  <a:pt x="17801" y="17507"/>
                  <a:pt x="17801" y="17547"/>
                </a:cubicBezTo>
                <a:cubicBezTo>
                  <a:pt x="17801" y="17595"/>
                  <a:pt x="17809" y="17614"/>
                  <a:pt x="17822" y="17653"/>
                </a:cubicBezTo>
                <a:cubicBezTo>
                  <a:pt x="17832" y="17684"/>
                  <a:pt x="17859" y="17734"/>
                  <a:pt x="17886" y="17738"/>
                </a:cubicBezTo>
                <a:cubicBezTo>
                  <a:pt x="17920" y="17742"/>
                  <a:pt x="17932" y="17759"/>
                  <a:pt x="17970" y="17759"/>
                </a:cubicBezTo>
                <a:cubicBezTo>
                  <a:pt x="18016" y="17759"/>
                  <a:pt x="18022" y="17749"/>
                  <a:pt x="18055" y="17716"/>
                </a:cubicBezTo>
                <a:cubicBezTo>
                  <a:pt x="18080" y="17691"/>
                  <a:pt x="18088" y="17641"/>
                  <a:pt x="18097" y="17611"/>
                </a:cubicBezTo>
                <a:cubicBezTo>
                  <a:pt x="18106" y="17579"/>
                  <a:pt x="18106" y="17555"/>
                  <a:pt x="18119" y="17526"/>
                </a:cubicBezTo>
                <a:cubicBezTo>
                  <a:pt x="18141" y="17475"/>
                  <a:pt x="18140" y="17454"/>
                  <a:pt x="18140" y="17399"/>
                </a:cubicBezTo>
                <a:cubicBezTo>
                  <a:pt x="18140" y="17328"/>
                  <a:pt x="18140" y="17258"/>
                  <a:pt x="18140" y="17187"/>
                </a:cubicBezTo>
                <a:cubicBezTo>
                  <a:pt x="18140" y="17151"/>
                  <a:pt x="18166" y="17242"/>
                  <a:pt x="18182" y="17272"/>
                </a:cubicBezTo>
                <a:cubicBezTo>
                  <a:pt x="18199" y="17305"/>
                  <a:pt x="18238" y="17364"/>
                  <a:pt x="18246" y="17399"/>
                </a:cubicBezTo>
                <a:cubicBezTo>
                  <a:pt x="18261" y="17461"/>
                  <a:pt x="18321" y="17512"/>
                  <a:pt x="18373" y="17568"/>
                </a:cubicBezTo>
                <a:cubicBezTo>
                  <a:pt x="18405" y="17603"/>
                  <a:pt x="18397" y="17635"/>
                  <a:pt x="18436" y="17674"/>
                </a:cubicBezTo>
              </a:path>
              <a:path w="9124" h="2711">
                <a:moveTo>
                  <a:pt x="18436" y="17018"/>
                </a:moveTo>
                <a:cubicBezTo>
                  <a:pt x="18440" y="17007"/>
                  <a:pt x="18479" y="16972"/>
                  <a:pt x="18500" y="16997"/>
                </a:cubicBezTo>
                <a:cubicBezTo>
                  <a:pt x="18528" y="17030"/>
                  <a:pt x="18501" y="17091"/>
                  <a:pt x="18521" y="17124"/>
                </a:cubicBezTo>
                <a:cubicBezTo>
                  <a:pt x="18533" y="17144"/>
                  <a:pt x="18553" y="17207"/>
                  <a:pt x="18563" y="17251"/>
                </a:cubicBezTo>
                <a:cubicBezTo>
                  <a:pt x="18576" y="17308"/>
                  <a:pt x="18610" y="17363"/>
                  <a:pt x="18627" y="17420"/>
                </a:cubicBezTo>
                <a:cubicBezTo>
                  <a:pt x="18635" y="17448"/>
                  <a:pt x="18645" y="17479"/>
                  <a:pt x="18648" y="17505"/>
                </a:cubicBezTo>
                <a:cubicBezTo>
                  <a:pt x="18654" y="17555"/>
                  <a:pt x="18674" y="17561"/>
                  <a:pt x="18690" y="17611"/>
                </a:cubicBezTo>
                <a:cubicBezTo>
                  <a:pt x="18700" y="17643"/>
                  <a:pt x="18711" y="17629"/>
                  <a:pt x="18711" y="17674"/>
                </a:cubicBezTo>
                <a:cubicBezTo>
                  <a:pt x="18711" y="17730"/>
                  <a:pt x="18711" y="17642"/>
                  <a:pt x="18711" y="17632"/>
                </a:cubicBezTo>
                <a:cubicBezTo>
                  <a:pt x="18711" y="17540"/>
                  <a:pt x="18714" y="17457"/>
                  <a:pt x="18690" y="17378"/>
                </a:cubicBezTo>
                <a:cubicBezTo>
                  <a:pt x="18679" y="17342"/>
                  <a:pt x="18680" y="17305"/>
                  <a:pt x="18669" y="17272"/>
                </a:cubicBezTo>
                <a:cubicBezTo>
                  <a:pt x="18652" y="17222"/>
                  <a:pt x="18662" y="17096"/>
                  <a:pt x="18690" y="17060"/>
                </a:cubicBezTo>
                <a:cubicBezTo>
                  <a:pt x="18717" y="17026"/>
                  <a:pt x="18756" y="17039"/>
                  <a:pt x="18796" y="17039"/>
                </a:cubicBezTo>
                <a:cubicBezTo>
                  <a:pt x="18845" y="17039"/>
                  <a:pt x="18895" y="17039"/>
                  <a:pt x="18944" y="17039"/>
                </a:cubicBezTo>
              </a:path>
              <a:path w="9124" h="2711">
                <a:moveTo>
                  <a:pt x="19177" y="17081"/>
                </a:moveTo>
                <a:cubicBezTo>
                  <a:pt x="19146" y="17156"/>
                  <a:pt x="19156" y="17248"/>
                  <a:pt x="19156" y="17335"/>
                </a:cubicBezTo>
                <a:cubicBezTo>
                  <a:pt x="19156" y="17423"/>
                  <a:pt x="19187" y="17473"/>
                  <a:pt x="19219" y="17526"/>
                </a:cubicBezTo>
                <a:cubicBezTo>
                  <a:pt x="19245" y="17569"/>
                  <a:pt x="19269" y="17596"/>
                  <a:pt x="19304" y="17632"/>
                </a:cubicBezTo>
                <a:cubicBezTo>
                  <a:pt x="19328" y="17656"/>
                  <a:pt x="19336" y="17680"/>
                  <a:pt x="19367" y="17695"/>
                </a:cubicBezTo>
                <a:cubicBezTo>
                  <a:pt x="19394" y="17708"/>
                  <a:pt x="19466" y="17731"/>
                  <a:pt x="19494" y="17738"/>
                </a:cubicBezTo>
                <a:cubicBezTo>
                  <a:pt x="19520" y="17744"/>
                  <a:pt x="19609" y="17744"/>
                  <a:pt x="19621" y="17716"/>
                </a:cubicBezTo>
                <a:cubicBezTo>
                  <a:pt x="19630" y="17696"/>
                  <a:pt x="19639" y="17610"/>
                  <a:pt x="19643" y="17589"/>
                </a:cubicBezTo>
                <a:cubicBezTo>
                  <a:pt x="19674" y="17441"/>
                  <a:pt x="19643" y="17254"/>
                  <a:pt x="19643" y="17103"/>
                </a:cubicBezTo>
                <a:cubicBezTo>
                  <a:pt x="19654" y="17133"/>
                  <a:pt x="19678" y="17181"/>
                  <a:pt x="19685" y="17208"/>
                </a:cubicBezTo>
                <a:cubicBezTo>
                  <a:pt x="19696" y="17253"/>
                  <a:pt x="19694" y="17289"/>
                  <a:pt x="19706" y="17335"/>
                </a:cubicBezTo>
                <a:cubicBezTo>
                  <a:pt x="19716" y="17376"/>
                  <a:pt x="19716" y="17422"/>
                  <a:pt x="19727" y="17462"/>
                </a:cubicBezTo>
                <a:cubicBezTo>
                  <a:pt x="19736" y="17495"/>
                  <a:pt x="19746" y="17510"/>
                  <a:pt x="19748" y="17547"/>
                </a:cubicBezTo>
                <a:cubicBezTo>
                  <a:pt x="19750" y="17577"/>
                  <a:pt x="19770" y="17610"/>
                  <a:pt x="19770" y="17611"/>
                </a:cubicBezTo>
                <a:cubicBezTo>
                  <a:pt x="19777" y="17643"/>
                  <a:pt x="19786" y="17686"/>
                  <a:pt x="19791" y="17716"/>
                </a:cubicBezTo>
                <a:cubicBezTo>
                  <a:pt x="19797" y="17753"/>
                  <a:pt x="19806" y="17792"/>
                  <a:pt x="19812" y="17822"/>
                </a:cubicBezTo>
                <a:cubicBezTo>
                  <a:pt x="19819" y="17856"/>
                  <a:pt x="19822" y="17876"/>
                  <a:pt x="19833" y="17907"/>
                </a:cubicBezTo>
                <a:cubicBezTo>
                  <a:pt x="19845" y="17942"/>
                  <a:pt x="19852" y="17975"/>
                  <a:pt x="19854" y="18013"/>
                </a:cubicBezTo>
                <a:cubicBezTo>
                  <a:pt x="19856" y="18052"/>
                  <a:pt x="19857" y="18067"/>
                  <a:pt x="19833" y="18097"/>
                </a:cubicBezTo>
                <a:cubicBezTo>
                  <a:pt x="19807" y="18130"/>
                  <a:pt x="19771" y="18213"/>
                  <a:pt x="19727" y="18224"/>
                </a:cubicBezTo>
                <a:cubicBezTo>
                  <a:pt x="19686" y="18234"/>
                  <a:pt x="19620" y="18239"/>
                  <a:pt x="19579" y="18246"/>
                </a:cubicBezTo>
                <a:cubicBezTo>
                  <a:pt x="19547" y="18252"/>
                  <a:pt x="19506" y="18246"/>
                  <a:pt x="19473" y="18246"/>
                </a:cubicBezTo>
                <a:cubicBezTo>
                  <a:pt x="19473" y="18152"/>
                  <a:pt x="19461" y="18051"/>
                  <a:pt x="19494" y="17970"/>
                </a:cubicBezTo>
                <a:cubicBezTo>
                  <a:pt x="19512" y="17925"/>
                  <a:pt x="19523" y="17882"/>
                  <a:pt x="19558" y="17843"/>
                </a:cubicBezTo>
                <a:cubicBezTo>
                  <a:pt x="19588" y="17809"/>
                  <a:pt x="19622" y="17769"/>
                  <a:pt x="19664" y="17759"/>
                </a:cubicBezTo>
                <a:cubicBezTo>
                  <a:pt x="19727" y="17744"/>
                  <a:pt x="19751" y="17732"/>
                  <a:pt x="19791" y="17695"/>
                </a:cubicBezTo>
                <a:cubicBezTo>
                  <a:pt x="19816" y="17672"/>
                  <a:pt x="19823" y="17646"/>
                  <a:pt x="19854" y="17632"/>
                </a:cubicBezTo>
                <a:cubicBezTo>
                  <a:pt x="19902" y="17610"/>
                  <a:pt x="19876" y="17631"/>
                  <a:pt x="19918" y="17589"/>
                </a:cubicBezTo>
                <a:cubicBezTo>
                  <a:pt x="19937" y="17570"/>
                  <a:pt x="19941" y="17563"/>
                  <a:pt x="19960" y="1756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굴림"/>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28800" y="14292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lanet composition</a:t>
            </a:r>
            <a:endParaRPr b="0" lang="en-US" sz="4000" spc="-1" strike="noStrike">
              <a:solidFill>
                <a:srgbClr val="c1eeff"/>
              </a:solidFill>
              <a:latin typeface="Consolas"/>
            </a:endParaRPr>
          </a:p>
        </p:txBody>
      </p:sp>
      <p:sp>
        <p:nvSpPr>
          <p:cNvPr id="399" name=""/>
          <p:cNvSpPr txBox="1"/>
          <p:nvPr/>
        </p:nvSpPr>
        <p:spPr>
          <a:xfrm>
            <a:off x="428760" y="4714920"/>
            <a:ext cx="8572320" cy="2000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It looks like core is almost               Surface has always craters. I think it</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aking the whole composition.       Disturbs asteroids way.</a:t>
            </a:r>
            <a:endParaRPr b="0" lang="en-US" sz="2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00" name="Picture 2" descr="antenna-mercury-core-solve-mystery_2"/>
          <p:cNvPicPr/>
          <p:nvPr/>
        </p:nvPicPr>
        <p:blipFill>
          <a:blip r:embed="rId1"/>
          <a:stretch/>
        </p:blipFill>
        <p:spPr>
          <a:xfrm>
            <a:off x="928800" y="785880"/>
            <a:ext cx="3500280" cy="3852720"/>
          </a:xfrm>
          <a:prstGeom prst="rect">
            <a:avLst/>
          </a:prstGeom>
          <a:ln w="0">
            <a:noFill/>
          </a:ln>
        </p:spPr>
      </p:pic>
      <p:pic>
        <p:nvPicPr>
          <p:cNvPr id="401" name="Picture 3" descr="208635main_mercury_craters_lg"/>
          <p:cNvPicPr/>
          <p:nvPr/>
        </p:nvPicPr>
        <p:blipFill>
          <a:blip r:embed="rId2"/>
          <a:stretch/>
        </p:blipFill>
        <p:spPr>
          <a:xfrm>
            <a:off x="4643280" y="928800"/>
            <a:ext cx="4084920" cy="3429000"/>
          </a:xfrm>
          <a:prstGeom prst="rect">
            <a:avLst/>
          </a:prstGeom>
          <a:ln w="0">
            <a:noFill/>
          </a:ln>
        </p:spPr>
      </p:pic>
    </p:spTree>
  </p:cSld>
  <p:transition spd="med">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512640"/>
            <a:ext cx="7772400" cy="84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Exploration</a:t>
            </a:r>
            <a:endParaRPr b="0" lang="en-US" sz="4000" spc="-1" strike="noStrike">
              <a:solidFill>
                <a:srgbClr val="c1eeff"/>
              </a:solidFill>
              <a:latin typeface="Consolas"/>
            </a:endParaRPr>
          </a:p>
        </p:txBody>
      </p:sp>
      <p:sp>
        <p:nvSpPr>
          <p:cNvPr id="403" name=""/>
          <p:cNvSpPr txBox="1"/>
          <p:nvPr/>
        </p:nvSpPr>
        <p:spPr>
          <a:xfrm>
            <a:off x="428760" y="1428840"/>
            <a:ext cx="8572320" cy="5286240"/>
          </a:xfrm>
          <a:prstGeom prst="rect">
            <a:avLst/>
          </a:prstGeom>
          <a:noFill/>
          <a:ln w="0">
            <a:noFill/>
          </a:ln>
        </p:spPr>
        <p:txBody>
          <a:bodyPr anchor="t">
            <a:normAutofit fontScale="97000"/>
          </a:bodyPr>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re are no probes or satellites sent there.          Because it’s too hot and cold. Also, too far away from here.</a:t>
            </a: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ea"/>
                </a:solidFill>
                <a:latin typeface="Corbel"/>
              </a:rPr>
              <a:t>Habitability</a:t>
            </a: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They will ruin the planet, after periods like on earth. But I don’t think they are able to live or build some   construction, because of too weak gravity and big    temperature differences between daytime and         night. So, they might need very high technology       and so on. </a:t>
            </a: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 </a:t>
            </a: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98520" indent="-33228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p:transition spd="med">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Bibliography </a:t>
            </a:r>
            <a:endParaRPr b="0" lang="en-US" sz="4000" spc="-1" strike="noStrike">
              <a:solidFill>
                <a:srgbClr val="c1eeff"/>
              </a:solidFill>
              <a:latin typeface="Consolas"/>
            </a:endParaRPr>
          </a:p>
        </p:txBody>
      </p:sp>
      <p:sp>
        <p:nvSpPr>
          <p:cNvPr id="405" name=""/>
          <p:cNvSpPr txBox="1"/>
          <p:nvPr/>
        </p:nvSpPr>
        <p:spPr>
          <a:xfrm>
            <a:off x="500040" y="1285560"/>
            <a:ext cx="8501040" cy="54291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http://www.exploratorium.edu/ronh/we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ttp://hypertextbook.com/facts/2000/OlesyaNisanov.shtml</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rbel"/>
              </a:rPr>
              <a:t>http://solarsystem.nasa.gov/planets/profile.cfm?Object=Mercury&amp;Display=Facts</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ttp://solarsystem.nasa.gov/index.cfm</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ttp://www.kidsastronomy.com/solar_system.htm</a:t>
            </a: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2487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nsolas"/>
              </a:rPr>
              <a:t>Thank you for </a:t>
            </a:r>
            <a:br>
              <a:rPr sz="4800"/>
            </a:br>
            <a:r>
              <a:rPr b="0" lang="en-US" sz="4800" spc="-1" strike="noStrike">
                <a:solidFill>
                  <a:srgbClr val="c1eeff"/>
                </a:solidFill>
                <a:latin typeface="Consolas"/>
              </a:rPr>
              <a:t>watching my </a:t>
            </a:r>
            <a:br>
              <a:rPr sz="4800"/>
            </a:br>
            <a:r>
              <a:rPr b="0" lang="en-US" sz="4800" spc="-1" strike="noStrike">
                <a:solidFill>
                  <a:srgbClr val="c1eeff"/>
                </a:solidFill>
                <a:latin typeface="Consolas"/>
              </a:rPr>
              <a:t>presentation!</a:t>
            </a:r>
            <a:endParaRPr b="0" lang="en-US" sz="4800" spc="-1" strike="noStrike">
              <a:solidFill>
                <a:srgbClr val="c1eeff"/>
              </a:solidFill>
              <a:latin typeface="Consolas"/>
            </a:endParaRPr>
          </a:p>
        </p:txBody>
      </p:sp>
      <p:pic>
        <p:nvPicPr>
          <p:cNvPr id="407" name="Symbol zastępczy zawartości 3" descr="Bez tytułu.jpg"/>
          <p:cNvPicPr/>
          <p:nvPr/>
        </p:nvPicPr>
        <p:blipFill>
          <a:blip r:embed="rId1"/>
          <a:stretch/>
        </p:blipFill>
        <p:spPr>
          <a:xfrm>
            <a:off x="5430960" y="142920"/>
            <a:ext cx="3603600" cy="4357800"/>
          </a:xfrm>
          <a:prstGeom prst="rect">
            <a:avLst/>
          </a:prstGeom>
          <a:ln w="0">
            <a:noFill/>
          </a:ln>
        </p:spPr>
      </p:pic>
      <p:sp>
        <p:nvSpPr>
          <p:cNvPr id="408" name="Gwiazda 5-ramienna 4"/>
          <p:cNvSpPr/>
          <p:nvPr/>
        </p:nvSpPr>
        <p:spPr>
          <a:xfrm>
            <a:off x="1643040" y="3357720"/>
            <a:ext cx="1785960" cy="1428480"/>
          </a:xfrm>
          <a:prstGeom prst="pie">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00040" y="142920"/>
            <a:ext cx="8501040" cy="107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nsolas"/>
              </a:rPr>
              <a:t>   </a:t>
            </a:r>
            <a:r>
              <a:rPr b="0" lang="en-US" sz="4800" spc="-1" strike="noStrike">
                <a:solidFill>
                  <a:srgbClr val="c1eeff"/>
                </a:solidFill>
                <a:latin typeface="Consolas"/>
              </a:rPr>
              <a:t>History of Mercury</a:t>
            </a:r>
            <a:endParaRPr b="0" lang="en-US" sz="4800" spc="-1" strike="noStrike">
              <a:solidFill>
                <a:srgbClr val="c1eeff"/>
              </a:solidFill>
              <a:latin typeface="Consolas"/>
            </a:endParaRPr>
          </a:p>
        </p:txBody>
      </p:sp>
      <p:sp>
        <p:nvSpPr>
          <p:cNvPr id="377" name=""/>
          <p:cNvSpPr txBox="1"/>
          <p:nvPr/>
        </p:nvSpPr>
        <p:spPr>
          <a:xfrm>
            <a:off x="428760" y="1356840"/>
            <a:ext cx="8572320" cy="53578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Who discovered Mercury?</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ercury has been observed for thousands of years, and I believe the Babylonians are credited with     mentioning it in writing for the first time in some        3000   years ago or so. We do not know the name   of the individual who first discovered it, just as we do not know the name of the man/woman who        invented the wheel.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99680" y="142560"/>
            <a:ext cx="81867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nsolas"/>
              </a:rPr>
              <a:t>   </a:t>
            </a:r>
            <a:r>
              <a:rPr b="0" lang="en-US" sz="5400" spc="-1" strike="noStrike">
                <a:solidFill>
                  <a:srgbClr val="c1eeff"/>
                </a:solidFill>
                <a:latin typeface="Consolas"/>
              </a:rPr>
              <a:t>Meaning of Mercury</a:t>
            </a:r>
            <a:endParaRPr b="0" lang="en-US" sz="5400" spc="-1" strike="noStrike">
              <a:solidFill>
                <a:srgbClr val="c1eeff"/>
              </a:solidFill>
              <a:latin typeface="Consolas"/>
            </a:endParaRPr>
          </a:p>
        </p:txBody>
      </p:sp>
      <p:sp>
        <p:nvSpPr>
          <p:cNvPr id="379" name=""/>
          <p:cNvSpPr txBox="1"/>
          <p:nvPr/>
        </p:nvSpPr>
        <p:spPr>
          <a:xfrm>
            <a:off x="500040" y="1071720"/>
            <a:ext cx="8501040" cy="471456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 astronomical mythology, Mercury was the Roman version of the god Hermes. He was the messenger for the other gods, and for this reason Mercury is  often depicted in pictures with winged sandals. In addition to delivering messages, he was also the   protector of travelers, and mercha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71320" y="142560"/>
            <a:ext cx="8343720" cy="1292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     </a:t>
            </a:r>
            <a:r>
              <a:rPr b="0" lang="en-US" sz="3600" spc="-1" strike="noStrike">
                <a:solidFill>
                  <a:srgbClr val="c1eeff"/>
                </a:solidFill>
                <a:latin typeface="Consolas"/>
              </a:rPr>
              <a:t>The picture of Mercury</a:t>
            </a:r>
            <a:endParaRPr b="0" lang="en-US" sz="3600" spc="-1" strike="noStrike">
              <a:solidFill>
                <a:srgbClr val="c1eeff"/>
              </a:solidFill>
              <a:latin typeface="Consolas"/>
            </a:endParaRPr>
          </a:p>
        </p:txBody>
      </p:sp>
      <p:sp>
        <p:nvSpPr>
          <p:cNvPr id="381" name="PlaceHolder 2"/>
          <p:cNvSpPr>
            <a:spLocks noGrp="1"/>
          </p:cNvSpPr>
          <p:nvPr>
            <p:ph/>
          </p:nvPr>
        </p:nvSpPr>
        <p:spPr>
          <a:xfrm>
            <a:off x="499680" y="1571400"/>
            <a:ext cx="3429000" cy="5143320"/>
          </a:xfrm>
          <a:prstGeom prst="rect">
            <a:avLst/>
          </a:prstGeom>
          <a:noFill/>
          <a:ln w="0">
            <a:noFill/>
          </a:ln>
        </p:spPr>
        <p:txBody>
          <a:bodyPr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s 2 pictures are Mercury</a:t>
            </a:r>
            <a:r>
              <a:rPr b="0" lang="en-US" sz="1800" spc="-1" strike="noStrike">
                <a:solidFill>
                  <a:srgbClr val="ffffff"/>
                </a:solidFill>
                <a:latin typeface="Corbel"/>
              </a:rPr>
              <a:t>.</a:t>
            </a: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ut, unfortunately discoverer is            unknown still.</a:t>
            </a:r>
            <a:endParaRPr b="0" lang="en-US" sz="3200" spc="-1" strike="noStrike">
              <a:solidFill>
                <a:srgbClr val="ffffff"/>
              </a:solidFill>
              <a:latin typeface="Corbel"/>
            </a:endParaRPr>
          </a:p>
        </p:txBody>
      </p:sp>
      <p:pic>
        <p:nvPicPr>
          <p:cNvPr id="382" name="Picture 2" descr="http://www.enchantedlearning.com/mgifs/MercuryNASA.GIF"/>
          <p:cNvPicPr/>
          <p:nvPr/>
        </p:nvPicPr>
        <p:blipFill>
          <a:blip r:embed="rId1"/>
          <a:stretch/>
        </p:blipFill>
        <p:spPr>
          <a:xfrm>
            <a:off x="4071960" y="1785960"/>
            <a:ext cx="2433600" cy="2286000"/>
          </a:xfrm>
          <a:prstGeom prst="rect">
            <a:avLst/>
          </a:prstGeom>
          <a:ln w="0">
            <a:noFill/>
          </a:ln>
        </p:spPr>
      </p:pic>
      <p:pic>
        <p:nvPicPr>
          <p:cNvPr id="383" name="Picture 3" descr="\\SBS2008\redirected$\nauczyciel006n\Moje dokumenty\My Pictures\Bez tytułu.jpg"/>
          <p:cNvPicPr/>
          <p:nvPr/>
        </p:nvPicPr>
        <p:blipFill>
          <a:blip r:embed="rId2"/>
          <a:stretch/>
        </p:blipFill>
        <p:spPr>
          <a:xfrm>
            <a:off x="4572000" y="4214880"/>
            <a:ext cx="1962000" cy="2409840"/>
          </a:xfrm>
          <a:prstGeom prst="rect">
            <a:avLst/>
          </a:prstGeom>
          <a:ln w="0">
            <a:noFill/>
          </a:ln>
        </p:spPr>
      </p:pic>
      <p:pic>
        <p:nvPicPr>
          <p:cNvPr id="384" name="Picture 2" descr="http://tbn2.google.com/images?q=tbn:ZPryz4qbhHeZ2M:http://techdigest.tv/mercury.jpg"/>
          <p:cNvPicPr/>
          <p:nvPr/>
        </p:nvPicPr>
        <p:blipFill>
          <a:blip r:embed="rId3"/>
          <a:stretch/>
        </p:blipFill>
        <p:spPr>
          <a:xfrm>
            <a:off x="6715080" y="1714680"/>
            <a:ext cx="2214720" cy="2214360"/>
          </a:xfrm>
          <a:prstGeom prst="rect">
            <a:avLst/>
          </a:prstGeom>
          <a:ln w="0">
            <a:noFill/>
          </a:ln>
        </p:spPr>
      </p:pic>
      <p:sp>
        <p:nvSpPr>
          <p:cNvPr id="385" name="Strzałka w prawo 7"/>
          <p:cNvSpPr/>
          <p:nvPr/>
        </p:nvSpPr>
        <p:spPr>
          <a:xfrm rot="966600">
            <a:off x="3630600" y="2066400"/>
            <a:ext cx="1071720" cy="571680"/>
          </a:xfrm>
          <a:prstGeom prst="rightArrow">
            <a:avLst>
              <a:gd name="adj1" fmla="val 50000"/>
              <a:gd name="adj2" fmla="val 49991"/>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500040" y="142560"/>
            <a:ext cx="85010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800" spc="-1" strike="noStrike">
                <a:solidFill>
                  <a:srgbClr val="c1eeff"/>
                </a:solidFill>
                <a:latin typeface="Consolas"/>
              </a:rPr>
              <a:t>In solar system</a:t>
            </a:r>
            <a:endParaRPr b="0" lang="en-US" sz="4800" spc="-1" strike="noStrike">
              <a:solidFill>
                <a:srgbClr val="c1eeff"/>
              </a:solidFill>
              <a:latin typeface="Consolas"/>
            </a:endParaRPr>
          </a:p>
        </p:txBody>
      </p:sp>
      <p:sp>
        <p:nvSpPr>
          <p:cNvPr id="387" name=""/>
          <p:cNvSpPr txBox="1"/>
          <p:nvPr/>
        </p:nvSpPr>
        <p:spPr>
          <a:xfrm>
            <a:off x="500040" y="1428840"/>
            <a:ext cx="8501040" cy="52862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Order from the sun:   1</a:t>
            </a:r>
            <a:r>
              <a:rPr b="0" lang="en-US" sz="2500" spc="-1" strike="noStrike" baseline="30000">
                <a:solidFill>
                  <a:srgbClr val="ffffff"/>
                </a:solidFill>
                <a:latin typeface="Corbel"/>
              </a:rPr>
              <a:t>st</a:t>
            </a:r>
            <a:r>
              <a:rPr b="0" lang="en-US" sz="2500" spc="-1" strike="noStrike">
                <a:solidFill>
                  <a:srgbClr val="ffffff"/>
                </a:solidFill>
                <a:latin typeface="Corbel"/>
              </a:rPr>
              <a:t> !!!!!</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                                  </a:t>
            </a:r>
            <a:r>
              <a:rPr b="0" lang="en-US" sz="2500" spc="-1" strike="noStrike">
                <a:solidFill>
                  <a:srgbClr val="ffffff"/>
                </a:solidFill>
                <a:latin typeface="Corbel"/>
              </a:rPr>
              <a:t>The symbol of Mercury</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Distance from the sun</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0.39AU               579000000 </a:t>
            </a:r>
            <a:r>
              <a:rPr b="1" i="1" lang="en-US" sz="2500" spc="-1" strike="noStrike">
                <a:solidFill>
                  <a:srgbClr val="ffffff"/>
                </a:solidFill>
                <a:latin typeface="Corbel"/>
              </a:rPr>
              <a:t>kilometers</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ff"/>
                </a:solidFill>
                <a:latin typeface="Corbel"/>
              </a:rPr>
              <a:t>It takes 88days to orbit the sun</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ff"/>
                </a:solidFill>
                <a:latin typeface="Andalus"/>
                <a:ea typeface="Andalus"/>
              </a:rPr>
              <a:t>It’s  perihelion (closest distance)is  45 million km and           Aphelion  is  69.7million km</a:t>
            </a:r>
            <a:endParaRPr b="0" lang="en-US" sz="25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Baskerville Old Face"/>
              </a:rPr>
              <a:t>1 day is 1416h</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88" name="Strzałka w prawo 3"/>
          <p:cNvSpPr/>
          <p:nvPr/>
        </p:nvSpPr>
        <p:spPr>
          <a:xfrm>
            <a:off x="6286680" y="2000160"/>
            <a:ext cx="571320" cy="428760"/>
          </a:xfrm>
          <a:prstGeom prst="rightArrow">
            <a:avLst>
              <a:gd name="adj1" fmla="val 50000"/>
              <a:gd name="adj2" fmla="val 49968"/>
            </a:avLst>
          </a:prstGeom>
          <a:solidFill>
            <a:srgbClr val="7fd13b"/>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굴림"/>
            </a:endParaRPr>
          </a:p>
        </p:txBody>
      </p:sp>
      <p:pic>
        <p:nvPicPr>
          <p:cNvPr id="389" name="Picture 4" descr=""/>
          <p:cNvPicPr/>
          <p:nvPr/>
        </p:nvPicPr>
        <p:blipFill>
          <a:blip r:embed="rId1"/>
          <a:stretch/>
        </p:blipFill>
        <p:spPr>
          <a:xfrm>
            <a:off x="7000920" y="1500120"/>
            <a:ext cx="1785960" cy="2133720"/>
          </a:xfrm>
          <a:prstGeom prst="rect">
            <a:avLst/>
          </a:prstGeom>
          <a:ln w="0">
            <a:noFill/>
          </a:ln>
        </p:spPr>
      </p:pic>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28800" y="14292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What is it made of? </a:t>
            </a:r>
            <a:endParaRPr b="0" lang="en-US" sz="4000" spc="-1" strike="noStrike">
              <a:solidFill>
                <a:srgbClr val="c1eeff"/>
              </a:solidFill>
              <a:latin typeface="Consolas"/>
            </a:endParaRPr>
          </a:p>
        </p:txBody>
      </p:sp>
      <p:sp>
        <p:nvSpPr>
          <p:cNvPr id="391" name=""/>
          <p:cNvSpPr txBox="1"/>
          <p:nvPr/>
        </p:nvSpPr>
        <p:spPr>
          <a:xfrm>
            <a:off x="500040" y="928440"/>
            <a:ext cx="8501040" cy="57862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rbel"/>
              </a:rPr>
              <a:t>Mercury is made by…</a:t>
            </a:r>
            <a:endParaRPr b="0" lang="en-US" sz="25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Mercury is a rocky planet with a huge iron core </a:t>
            </a:r>
            <a:endParaRPr b="0" lang="en-US" sz="28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rbel"/>
              </a:rPr>
              <a:t>    </a:t>
            </a:r>
            <a:r>
              <a:rPr b="1" lang="en-US" sz="2800" spc="-1" strike="noStrike">
                <a:solidFill>
                  <a:srgbClr val="ffffff"/>
                </a:solidFill>
                <a:latin typeface="Corbel"/>
              </a:rPr>
              <a:t>which makes up a large part of it’s interior. The core takes up nearly 3/4 of the planet's diameter.             Mercury's iron core is about the size of the moon.     Iron makes up about 70% of Mercury's total weight making Mercury the most iron-rich planet in the       solar system. On top of this core, lies an outer,          rocky shell which is about 350 miles (~550 km) thick. </a:t>
            </a:r>
            <a:endParaRPr b="0" lang="en-US" sz="28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p:transition spd="med">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571400" y="142920"/>
            <a:ext cx="6429240" cy="9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eeff"/>
                </a:solidFill>
                <a:latin typeface="Consolas"/>
              </a:rPr>
              <a:t>Planet measurement </a:t>
            </a:r>
            <a:endParaRPr b="0" lang="en-US" sz="4800" spc="-1" strike="noStrike">
              <a:solidFill>
                <a:srgbClr val="c1eeff"/>
              </a:solidFill>
              <a:latin typeface="Consolas"/>
            </a:endParaRPr>
          </a:p>
        </p:txBody>
      </p:sp>
      <p:sp>
        <p:nvSpPr>
          <p:cNvPr id="393" name=""/>
          <p:cNvSpPr txBox="1"/>
          <p:nvPr/>
        </p:nvSpPr>
        <p:spPr>
          <a:xfrm>
            <a:off x="500040" y="928440"/>
            <a:ext cx="8501040" cy="57862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Mass:</a:t>
            </a:r>
            <a:r>
              <a:rPr b="0" lang="pl-PL" sz="3000" spc="-1" strike="noStrike">
                <a:solidFill>
                  <a:srgbClr val="ffffff"/>
                </a:solidFill>
                <a:latin typeface="Corbel"/>
              </a:rPr>
              <a:t> 3.30e23 k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Volume:</a:t>
            </a:r>
            <a:r>
              <a:rPr b="0" lang="en-US" sz="3000" spc="-1" strike="noStrike">
                <a:solidFill>
                  <a:srgbClr val="ffffff"/>
                </a:solidFill>
                <a:latin typeface="Corbel"/>
              </a:rPr>
              <a:t>60,827,200,000 km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Equatorial Circumference:</a:t>
            </a:r>
            <a:r>
              <a:rPr b="0" lang="en-US" sz="3000" spc="-1" strike="noStrike">
                <a:solidFill>
                  <a:srgbClr val="ffffff"/>
                </a:solidFill>
                <a:latin typeface="Corbel"/>
              </a:rPr>
              <a:t>2,439.7 k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Mean Density:</a:t>
            </a:r>
            <a:r>
              <a:rPr b="0" lang="en-US" sz="3000" spc="-1" strike="noStrike">
                <a:solidFill>
                  <a:srgbClr val="ffffff"/>
                </a:solidFill>
                <a:latin typeface="Corbel"/>
              </a:rPr>
              <a:t>5.427 g/cm3</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Gravity:0.38 of earth</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Diameter:  4,880k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If you weighed 100lbs. on Earth, how much would you weigh on your planet?                       </a:t>
            </a:r>
            <a:r>
              <a:rPr b="0" lang="en-US" sz="3000" spc="-1" strike="noStrike">
                <a:solidFill>
                  <a:srgbClr val="ffffff"/>
                </a:solidFill>
                <a:latin typeface="Corbel"/>
              </a:rPr>
              <a:t>38.46Ib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rbel"/>
              </a:rPr>
              <a:t>     </a:t>
            </a:r>
            <a:r>
              <a:rPr b="1" lang="en-US" sz="3000" spc="-1" strike="noStrike">
                <a:solidFill>
                  <a:srgbClr val="ffffff"/>
                </a:solidFill>
                <a:latin typeface="Corbel"/>
              </a:rPr>
              <a:t>Temperature ranges 100k to 700k equator.</a:t>
            </a:r>
            <a:r>
              <a:rPr b="1" lang="ko-KR" sz="3000" spc="-1" strike="noStrike">
                <a:solidFill>
                  <a:srgbClr val="ffffff"/>
                </a:solidFill>
                <a:latin typeface="Corbel"/>
              </a:rPr>
              <a:t> </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57160" y="14292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he temperature on Mercury</a:t>
            </a:r>
            <a:endParaRPr b="0" lang="en-US" sz="4000" spc="-1" strike="noStrike">
              <a:solidFill>
                <a:srgbClr val="c1eeff"/>
              </a:solidFill>
              <a:latin typeface="Consolas"/>
            </a:endParaRPr>
          </a:p>
        </p:txBody>
      </p:sp>
      <p:sp>
        <p:nvSpPr>
          <p:cNvPr id="395" name=""/>
          <p:cNvSpPr txBox="1"/>
          <p:nvPr/>
        </p:nvSpPr>
        <p:spPr>
          <a:xfrm>
            <a:off x="500040" y="857160"/>
            <a:ext cx="8501040" cy="5857920"/>
          </a:xfrm>
          <a:prstGeom prst="rect">
            <a:avLst/>
          </a:prstGeom>
          <a:noFill/>
          <a:ln w="0">
            <a:noFill/>
          </a:ln>
        </p:spPr>
        <p:txBody>
          <a:bodyPr anchor="t">
            <a:normAutofit fontScale="91000"/>
          </a:bodyPr>
          <a:p>
            <a:pPr marL="374040" indent="-311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highest surface temperature on mercury is </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660`c and lowest temperature on mercury was</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200`c . Mercury is a planet that has big difference on temperature as well. This happens, because of </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the sun. The area that expose to the sun will be </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very hot, but other side will be freezing, because </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there is no atmosphere to keep hotness or coldness.    It is similar circumstances with reason of night and   day in the earth.</a:t>
            </a:r>
            <a:endParaRPr b="0" lang="en-US" sz="30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74040" indent="-31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endParaRPr b="0" lang="en-US" sz="2400" spc="-1" strike="noStrike">
              <a:solidFill>
                <a:srgbClr val="ffffff"/>
              </a:solidFill>
              <a:latin typeface="Corbel"/>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28760" y="1351080"/>
            <a:ext cx="8572320" cy="5364000"/>
          </a:xfrm>
          <a:prstGeom prst="rect">
            <a:avLst/>
          </a:prstGeom>
          <a:noFill/>
          <a:ln w="0">
            <a:noFill/>
          </a:ln>
        </p:spPr>
        <p:txBody>
          <a:bodyPr lIns="82440" bIns="0" anchor="t">
            <a:normAutofit/>
          </a:bodyPr>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re is no atmosphere, so there is no weather also. There is no major gases,</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 </a:t>
            </a:r>
            <a:r>
              <a:rPr b="0" lang="en-US" sz="2000" spc="-1" strike="noStrike">
                <a:solidFill>
                  <a:srgbClr val="ffffff"/>
                </a:solidFill>
                <a:latin typeface="Corbel"/>
              </a:rPr>
              <a:t>Because of low pressure(the surface pressure is 761.84mm Hg).Minor gases are ‘helium, Oxygen, hydrogen and Sodium. </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Surface Conditions:</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 </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Wind speeds: </a:t>
            </a:r>
            <a:r>
              <a:rPr b="0" lang="en-US" sz="2000" spc="-1" strike="noStrike">
                <a:solidFill>
                  <a:srgbClr val="ffffff"/>
                </a:solidFill>
                <a:latin typeface="Corbel"/>
              </a:rPr>
              <a:t>The wind speed on Mercury is zero. Mercury has no atmosphere, and that makes it impossible for there to be wind. Wind is the movement of atmospheric gas (air). </a:t>
            </a:r>
            <a:endParaRPr b="0" lang="en-US" sz="20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only wind on Mercury is the solar wind, and most of that is deflected by Mercury's magnetic field</a:t>
            </a:r>
            <a:endParaRPr b="0" lang="en-US" sz="2000" spc="-1" strike="noStrike">
              <a:solidFill>
                <a:srgbClr val="ffffff"/>
              </a:solidFill>
              <a:latin typeface="Corbel"/>
            </a:endParaRPr>
          </a:p>
        </p:txBody>
      </p:sp>
      <p:sp>
        <p:nvSpPr>
          <p:cNvPr id="397" name="PlaceHolder 2"/>
          <p:cNvSpPr>
            <a:spLocks noGrp="1"/>
          </p:cNvSpPr>
          <p:nvPr>
            <p:ph type="title"/>
          </p:nvPr>
        </p:nvSpPr>
        <p:spPr>
          <a:xfrm>
            <a:off x="705960" y="512280"/>
            <a:ext cx="8156520" cy="776520"/>
          </a:xfrm>
          <a:prstGeom prst="rect">
            <a:avLst/>
          </a:prstGeom>
          <a:noFill/>
          <a:ln w="0">
            <a:noFill/>
          </a:ln>
        </p:spPr>
        <p:txBody>
          <a:bodyPr tIns="64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1eeff"/>
                </a:solidFill>
                <a:latin typeface="Consolas"/>
              </a:rPr>
              <a:t>The atmosphere in mercury</a:t>
            </a:r>
            <a:endParaRPr b="0" lang="en-US" sz="3800" spc="-1" strike="noStrike">
              <a:solidFill>
                <a:srgbClr val="c1eeff"/>
              </a:solidFill>
              <a:latin typeface="Consolas"/>
            </a:endParaRPr>
          </a:p>
        </p:txBody>
      </p:sp>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20:03:03Z</dcterms:created>
  <dc:creator>LG전자</dc:creator>
  <dc:description/>
  <dc:language>en-US</dc:language>
  <cp:lastModifiedBy>nauczyciel006n</cp:lastModifiedBy>
  <dcterms:modified xsi:type="dcterms:W3CDTF">2009-01-22T10:08:49Z</dcterms:modified>
  <cp:revision>24</cp:revision>
  <dc:subject/>
  <dc:title>Mercury </dc:title>
</cp:coreProperties>
</file>